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1C4-D5DF-4486-BE63-7D883F8F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AD7C-636F-4F5C-9119-2ADF79DD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F45-36FF-491F-BCE2-0A46DE91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4A33-711A-41E7-A3F6-88439780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AC92-D83E-48E0-A9BE-6EA522E5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BEBF-45ED-4B58-971C-1D0C6CA9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E8A5-D60E-4F0D-A290-67EA7F57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EB9A-CD45-4EAD-830B-FF1B5959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8E42-E05E-4D61-8FC9-0E32AC3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74A1-BA1E-40C1-888B-083C7251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D85-DCC7-48E4-80B7-BFC9D46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47F-B559-437A-BD6C-86C4736B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82C5-96F4-4F7F-B2BE-5E1B7BF4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F88D-B2E6-4B08-B4B4-1CA6F740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87CF-B1C4-4C67-800C-7330A3CF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819-1B40-4CD6-B049-1334911C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4F06-BBF3-4E02-9A9E-25DEE750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1A97-3354-429E-A332-0920311C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C80F-FFC3-4A3D-BB99-10EDB67A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A9A7-AD48-4606-96E3-B612E87E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DB63-CD1D-4737-B290-7E388DB0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2378-04F6-4179-983B-ED273054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D16-DB3F-4A3E-9610-2E92F579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317A-5847-44C0-B438-7AE41716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B81E-7DD4-42FE-A928-62CDB81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2E8C9-7FE1-4FF3-A7A8-773933E6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DAC0A-34E9-45EC-9DA1-F30582E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5116-7399-4317-A484-83DD615E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7393-853E-49CA-984D-7CECD3F6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9A34-9507-4646-8DB5-53C28277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E8DC8-7F37-45C8-ABE2-7848A725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0635E-196A-4000-944C-695AC3A5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CFAC-A4E4-4EA7-ACE7-F420643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0EB-7067-4CEC-AE5A-C6301075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91D0-1F7F-406C-9203-EB69EB37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6914-58DD-4A5E-9A71-9A92A9FB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3633-6DE6-4565-9E52-7633BBDE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EF0AD-0E5F-49C7-9140-3E78D6E0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02A4E-FF50-4A68-8DC8-B76A3A3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87C4-3DF1-4F89-9A16-CC2866B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91F30-983C-40F8-AA2F-3F3AB0F0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947B-6DED-4001-9336-6EA22ED7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9552-B1B8-4456-89B7-A6ED0D93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1958-2095-419A-9465-9E3DF7DD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175-7266-4358-873F-C08A687B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FB4A-6536-418B-8607-D2A99D34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E834A-0A00-40F2-9FAC-A8E8A61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2982D-898E-4590-8B28-3A17488A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03191-B058-4A50-AD4D-A1784B90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78D91-3B6F-46C9-8191-68A63CE1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06C3-9072-474E-A9E4-47694E4D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053B-93CB-4C97-A53C-B1A0D70C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F0D2-2864-4B4A-903F-C8D8BAA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FEEA-7E57-4913-9482-BD157F72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5C18-BAD5-4FD0-9876-E2D1E705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054-2352-4C80-AC68-555125E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4C9D5-2C55-474C-8459-AC2452B6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8413-473D-4543-AE2F-D6C8C3A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447BF-2981-473D-B650-E0FBEC32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CD63-1283-4882-BC16-007C4AF3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22A07-A0FA-43FA-A3BF-3D0C9780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441F7-4C40-4334-85DF-03095DA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B19A5-178B-4253-AF97-A6D1EE66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BB843-5EB1-4419-B059-611EB9EF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74347-7EF7-4BC5-9C92-2627E437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7368-4D60-4323-B11D-623078D3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6D7-51E2-4516-91C5-27B2DF5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FAAD0-222E-4C41-9C19-A688A253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EA7F-C17E-4A2C-B928-D7A094D6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B04F3-89CA-404D-A3B1-634979D2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5A3A9-4D95-4B8D-965E-6F2FE88C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602C6-DB01-4CA1-AF6A-E8AA75A9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A6F29-9386-47A8-A8E7-F9562D4C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6E494-DCBA-4237-A0D3-9E80B75A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25DC1-228E-40C8-85CF-5E840892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EFA2D-640D-42B4-8312-252DFCEB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2239C-D8CF-4584-9551-031028C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C8C5-8C0B-4ABF-BE21-1BA8F9E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38291-740E-4C41-A716-14D4C6D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CB98-2F9F-491B-8DE0-290AD024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9D347-1F15-4CE6-B7C5-73BBBDD5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FE3B-1EE7-4FBF-AB4A-012E4D73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89EBA-F0B3-4B5C-91BD-746CB101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043-9815-4914-8340-6EF2DD4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826B-9AA1-4D27-90CA-F3AF3B8E55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9194-1C09-48BC-ABD7-05CFD83BCCD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96C3-ED71-49A5-9598-A590A43DECF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3342-F421-4A8B-862D-6FA9D05BFE3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FCF9-C561-4DC0-AC7E-04824BE728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3513-6334-4EC4-95D6-273A3D0CB9E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57DC-9954-46F3-9592-F806DB58387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rotherpeacemaker.files.wordpress.com/2009/07/apollo-11.jpg&amp;imgrefurl=http://brotherpeacemaker.wordpress.com/2009/07/&amp;usg=__syQKYe0D5DqG7_dpmSLIpLkcr6s=&amp;h=1024&amp;w=1280&amp;sz=397&amp;hl=en&amp;start=3&amp;um=1&amp;tbnid=w32arWEZkvCrOM:&amp;tbnh=120&amp;tbnw=150&amp;prev=/images?q=apollo+11&amp;hl=en&amp;rls=com.microsoft:en-US&amp;um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nasa.gov/images/content/45325main_MM_Image_Feature_69_rs4.jpg&amp;imgrefurl=http://www.nasa.gov/multimedia/imagegallery/image_feature_69.html&amp;usg=__KC-3kCdgEgUPG0rjrvWbQ8XKHv8=&amp;h=387&amp;w=516&amp;sz=85&amp;hl=en&amp;start=19&amp;um=1&amp;tbnid=BQPhgDweO3vi5M:&amp;tbnh=98&amp;tbnw=131&amp;prev=/images?q=apollo+11&amp;hl=en&amp;rls=com.microsoft:en-US&amp;um=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y2kfam.com/images/apollo11.jpg&amp;imgrefurl=http://www.y2kfam.com/&amp;usg=__A7VRmki0NDeTxf57ybtoDDW0j-4=&amp;h=375&amp;w=500&amp;sz=34&amp;hl=en&amp;start=14&amp;um=1&amp;tbnid=4EHlOlh3ilrWVM:&amp;tbnh=98&amp;tbnw=130&amp;prev=/images?q=apollo+11&amp;hl=en&amp;rls=com.microsoft:en-US&amp;um=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space-exploration-pictures.htm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images.google.com/imgres?imgurl=http://spaceflight.nasa.gov/gallery/images/station/s117e08011_small_hsf.jpg&amp;imgrefurl=http://spaceflight.nasa.gov/gallery/images/station/&amp;usg=__KZzbuEOHda0kcqvs2rJI4Q2r4wk=&amp;h=340&amp;w=340&amp;sz=30&amp;hl=en&amp;start=35&amp;um=1&amp;tbnid=4bh-t81Ri1TYCM:&amp;tbnh=119&amp;tbnw=119&amp;prev=/images?q=space+station&amp;ndsp=20&amp;hl=en&amp;rls=com.microsoft:en-US&amp;sa=N&amp;start=20&amp;um=1" TargetMode="External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ero.iitb.ac.in/home/zephyr/08/images/workshops/gps_satellite_650.jpg&amp;imgrefurl=http://www.aero.iitb.ac.in/home/zephyr/08/index.php?option=com_content&amp;task=view&amp;id=57&amp;Itemid=9&amp;usg=__09157OKgP24DqG-6NkCiqHIi61o=&amp;h=521&amp;w=650&amp;sz=88&amp;hl=en&amp;start=11&amp;um=1&amp;tbnid=XZOIzpw1QJ4I9M:&amp;tbnh=110&amp;tbnw=137&amp;prev=/images?q=satellite&amp;hl=en&amp;rls=com.microsoft:en-US&amp;um=1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umbabe.arc.nasa.gov/MarsDustWorkshop/NASA_Logo.gif&amp;imgrefurl=http://humbabe.arc.nasa.gov/MarsDustWorkshop/DustHome.html&amp;usg=__7WZ-OgbAnFl9gn2A9BNOyug_lF0=&amp;h=857&amp;w=1005&amp;sz=44&amp;hl=en&amp;start=1&amp;um=1&amp;tbnid=m0YhM3vHjtBOYM:&amp;tbnh=127&amp;tbnw=149&amp;prev=/images?q=NASA&amp;hl=en&amp;rls=com.microsoft:en-US&amp;sa=N&amp;um=1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veling Into Spa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apter 19 section 5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pace Race </a:t>
            </a:r>
            <a:br>
              <a:rPr sz="3900"/>
            </a:b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continue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38080" y="160020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U.S. spacecraft </a:t>
            </a: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Surveyor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was sent to moon and landed, did not sink into surface, proved that moon had solid surface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July 1969, three American astronauts circled the moon aboard </a:t>
            </a: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Apollo 11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. Neil Armstrong and Buzz Aldrin entered a tiny spacecraft called </a:t>
            </a: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Eagl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. On July 20, it landed on the Sea of Tranquility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 few hours later, Armstrong set foot on the surface of the moon and said “That’s one small step for man, one giant leap for mankind.”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2" descr="http://t2.gstatic.com/images?q=tbn:w32arWEZkvCrOM:http://brotherpeacemaker.files.wordpress.com/2009/07/apollo-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28600"/>
            <a:ext cx="2667240" cy="21337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http://t1.gstatic.com/images?q=tbn:BQPhgDweO3vi5M:http://www.nasa.gov/images/content/45325main_MM_Image_Feature_69_rs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590920"/>
            <a:ext cx="2241720" cy="1676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http://t1.gstatic.com/images?q=tbn:4EHlOlh3ilrWVM:http://www.y2kfam.com/images/apollo1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4572000"/>
            <a:ext cx="2349720" cy="17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657600" y="380520"/>
            <a:ext cx="52768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Space shuttle-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a spacecraft that can carry a crew into space, return to Earth and then be reused for the same purpose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did not happen before 198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large rockets that launch it into orbit then fall aw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NASA uses space shuttles in important tasks, such as taking satellites into orbit, repairing damaged satellites, and carrying astronauts and equipment to and from space station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6" descr="Explore_J54_Shuttle_sx6761a3"/>
          <p:cNvPicPr/>
          <p:nvPr/>
        </p:nvPicPr>
        <p:blipFill>
          <a:blip r:embed="rId1"/>
          <a:stretch/>
        </p:blipFill>
        <p:spPr>
          <a:xfrm>
            <a:off x="457200" y="609480"/>
            <a:ext cx="3084480" cy="538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pace sta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A large artificial satellite on which people can live and work for long periods; provides a place where long-term observations and experiments can be carried into sp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970s and 1980s, US and Soviets placed them in orb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1980s the US and 15 other countries, began planning for construction of the International Space Station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rst module place into orbit in 199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artist's concept of I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380880"/>
            <a:ext cx="4419360" cy="331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International space station"/>
          <p:cNvPicPr/>
          <p:nvPr/>
        </p:nvPicPr>
        <p:blipFill>
          <a:blip r:embed="rId3"/>
          <a:stretch/>
        </p:blipFill>
        <p:spPr>
          <a:xfrm>
            <a:off x="5791320" y="2743200"/>
            <a:ext cx="3004920" cy="2705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http://t2.gstatic.com/images?q=tbn:4bh-t81Ri1TYCM:http://spaceflight.nasa.gov/gallery/images/station/s117e08011_small_hs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396252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7"/>
          <p:cNvSpPr/>
          <p:nvPr/>
        </p:nvSpPr>
        <p:spPr>
          <a:xfrm>
            <a:off x="6095880" y="114300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ace Sta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434960" y="533160"/>
            <a:ext cx="7499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Space prob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- a spacecraft that carries scientific instruments that can collect data, but has no human crew; gather data about distant parts of the solar system where humans cannot easily trave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ach probe has a power system, a communication system, and scientific instru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Rov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- a small robot, located on some probes, that moves around on the surface of something; typically to collect and analyze soil and rock sampl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2" descr="http://t1.gstatic.com/images?q=tbn:cpE1TQO0hTDAWM:http://www.sti.nasa.gov/tto/spinoff2001/images/81.jpg"/>
          <p:cNvPicPr/>
          <p:nvPr/>
        </p:nvPicPr>
        <p:blipFill>
          <a:blip r:embed="rId1"/>
          <a:stretch/>
        </p:blipFill>
        <p:spPr>
          <a:xfrm>
            <a:off x="5334120" y="4343400"/>
            <a:ext cx="2923920" cy="22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ock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a device that expels gas in one direction to move in the opposite dir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rst rockets in China, 1100s, then in 1200s Chinese used gun pow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ocket moves forward when gases shooting out of the back of the rocket push it in the opposite dir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r every force, or action, there is an equal and opposite force, or rea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hru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reaction force that propels a rocket forwa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ount of thrust depends on several factors including mass and speed of the gases propelled out of the r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speed in a given dir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greater the thrust, the greater a rocket’s veloc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order to lift off the ground, a rocket must have more upward thrust than the downward force of gra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http://lasp.colorado.edu/~bagenal/1010/graphics/rocket_3rdlawa.gif"/>
          <p:cNvPicPr/>
          <p:nvPr/>
        </p:nvPicPr>
        <p:blipFill>
          <a:blip r:embed="rId1"/>
          <a:stretch/>
        </p:blipFill>
        <p:spPr>
          <a:xfrm>
            <a:off x="2286000" y="152280"/>
            <a:ext cx="4665600" cy="63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Do Rockets Work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10" descr="Explore_J42_Rocket_ntxt_sx6132a3"/>
          <p:cNvPicPr/>
          <p:nvPr/>
        </p:nvPicPr>
        <p:blipFill>
          <a:blip r:embed="rId1"/>
          <a:stretch/>
        </p:blipFill>
        <p:spPr>
          <a:xfrm>
            <a:off x="2084400" y="1447920"/>
            <a:ext cx="6200640" cy="4800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1" descr="Explore_J42_Rocket_text1_sx6132a3"/>
          <p:cNvPicPr/>
          <p:nvPr/>
        </p:nvPicPr>
        <p:blipFill>
          <a:blip r:embed="rId2"/>
          <a:stretch/>
        </p:blipFill>
        <p:spPr>
          <a:xfrm>
            <a:off x="5181480" y="2666880"/>
            <a:ext cx="2895840" cy="841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Explore_J42_Rocket_text2_sx6132a3"/>
          <p:cNvPicPr/>
          <p:nvPr/>
        </p:nvPicPr>
        <p:blipFill>
          <a:blip r:embed="rId3"/>
          <a:stretch/>
        </p:blipFill>
        <p:spPr>
          <a:xfrm>
            <a:off x="3276720" y="5257800"/>
            <a:ext cx="2814480" cy="84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eloci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Orbital Velocit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velocity a rocket must achieve to establish an orbit around Ear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locity of 40,200 km/hr or more will allow rocket to escape into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scape velocit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velocity a rocket must reach to fly beyond a planet’s gravitational p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228600"/>
            <a:ext cx="7499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Multistage Rocke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proposed by Konstantin Tsiolkovsky in 190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total weight of the rocket is greatly reduced as the rocket ri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aller rockets, or stages, are placed one on top of the other and then fired in order; the empty fuel container falls away then the next stage ignites and continued powering the r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21" descr="Explore_J44-45_Launch3-ntxt_sx6134a3"/>
          <p:cNvPicPr/>
          <p:nvPr/>
        </p:nvPicPr>
        <p:blipFill>
          <a:blip r:embed="rId1"/>
          <a:stretch/>
        </p:blipFill>
        <p:spPr>
          <a:xfrm>
            <a:off x="1676520" y="4343400"/>
            <a:ext cx="627696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4" descr="Explore_J44-45_Launch3-text1_sx6134a3"/>
          <p:cNvPicPr/>
          <p:nvPr/>
        </p:nvPicPr>
        <p:blipFill>
          <a:blip r:embed="rId2"/>
          <a:stretch/>
        </p:blipFill>
        <p:spPr>
          <a:xfrm>
            <a:off x="1981080" y="6019920"/>
            <a:ext cx="949320" cy="339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5" descr="Explore_J44-45_Launch3-text2_sx6134a3"/>
          <p:cNvPicPr/>
          <p:nvPr/>
        </p:nvPicPr>
        <p:blipFill>
          <a:blip r:embed="rId3"/>
          <a:stretch/>
        </p:blipFill>
        <p:spPr>
          <a:xfrm>
            <a:off x="4191120" y="6019920"/>
            <a:ext cx="1093680" cy="312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6" descr="Explore_J44-45_Launch3-text3_sx6134a3"/>
          <p:cNvPicPr/>
          <p:nvPr/>
        </p:nvPicPr>
        <p:blipFill>
          <a:blip r:embed="rId4"/>
          <a:stretch/>
        </p:blipFill>
        <p:spPr>
          <a:xfrm>
            <a:off x="6172200" y="5867280"/>
            <a:ext cx="1514520" cy="33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ace Ra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142640" y="2362320"/>
            <a:ext cx="7497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Space Rac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- The rivalry between the United States and the Soviet Union over the exploration of spa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ensions increased in 1957 when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Sputnik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 was launched into orbit by Sovie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Satellite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- An object that revolves around another object in spa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oons-natural; spacecraft orbiting Earth-artifici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 responded in early 1958 by launching </a:t>
            </a:r>
            <a:r>
              <a:rPr b="0" i="1" lang="en-US" sz="3000" spc="-1" strike="noStrike">
                <a:solidFill>
                  <a:srgbClr val="000000"/>
                </a:solidFill>
                <a:latin typeface="Gill Sans MT"/>
              </a:rPr>
              <a:t>Explorer 1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into orbi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2" descr="http://t0.gstatic.com/images?q=tbn:XZOIzpw1QJ4I9M:http://www.aero.iitb.ac.in/home/zephyr/08/images/workshops/gps_satellite_65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30492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http://t1.gstatic.com/images?q=tbn:m0YhM3vHjtBOYM:http://humbabe.arc.nasa.gov/MarsDustWorkshop/NASA_Logo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380880"/>
            <a:ext cx="1955880" cy="16671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pace Race continue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920"/>
            <a:ext cx="7499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Later in 1958, US established a government agency in charge of its space program called the National Aeronautics and Space Administration (NASA)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In 1961, Soviets launched first human into space, but less than 1 month later, Americans sent first American, Alan Shepard, into space in </a:t>
            </a:r>
            <a:r>
              <a:rPr b="0" i="1" lang="en-US" sz="2500" spc="-1" strike="noStrike">
                <a:solidFill>
                  <a:srgbClr val="000000"/>
                </a:solidFill>
                <a:latin typeface="Gill Sans MT"/>
              </a:rPr>
              <a:t>Freedom 7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irst American to orbit Earth (3 times) was John Glenn in a space capsule called </a:t>
            </a:r>
            <a:r>
              <a:rPr b="0" i="1" lang="en-US" sz="2500" spc="-1" strike="noStrike">
                <a:solidFill>
                  <a:srgbClr val="000000"/>
                </a:solidFill>
                <a:latin typeface="Gill Sans MT"/>
              </a:rPr>
              <a:t>Friendship 7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in 1962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merican effort to land astronauts on the moon was named the Apollo program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22:56:18Z</dcterms:created>
  <dc:creator>Falcon School District 49</dc:creator>
  <dc:description/>
  <dc:language>en-US</dc:language>
  <cp:lastModifiedBy>Falcon School District 49</cp:lastModifiedBy>
  <dcterms:modified xsi:type="dcterms:W3CDTF">2009-09-23T23:27:52Z</dcterms:modified>
  <cp:revision>4</cp:revision>
  <dc:subject/>
  <dc:title>Traveling Into Space</dc:title>
</cp:coreProperties>
</file>